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288-8F5E-4D62-B3A4-817F3749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534-05AA-4C6F-BE27-1F7BC6F0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8B6-FC9B-4816-9BC5-83DF0142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D32-81A6-473B-B127-18EBCA79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EFFA-FC08-480D-A001-2105D7C8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1164-3244-4B18-B543-9B24B783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8FF8-0884-4BDE-A560-F74EB4D1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FDE2-3C6F-4628-9416-D404724A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B2CE-219B-46F6-A836-153CA899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5F74-3BA0-44FF-B93B-A93D3A58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43E8-4B48-41FF-8C2B-3518AF6D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C4B-9637-4E21-94A4-B5AC3873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0367-9984-4483-9886-2F48036D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3D53-A229-4EDE-96A6-1F2D730D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2C44-9D2B-4894-BD6A-2623D3E9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B317-C404-4923-9D5C-1305C8AD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9D6E-C351-41B7-92FB-A87BD89D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00C-78DF-47EA-95A0-DEB78956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0A8-2D63-4570-B548-62185012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D7E-323F-46D2-ABB6-782B7FF1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6E1-B1CF-46A5-A6D2-97BB72EE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C50-F382-4F03-9FB5-EDCACB55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451-D973-4723-8C9C-A93580B4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6C9-469C-4A25-9FBD-3B5D637F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E63E-00E1-40C7-951F-1985A80C2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936D-816F-4711-A6CE-4239DBB71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-astronomy.mps.ohio-state.edu/~pogge/Ast161/Unit1/number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b7"/>
                </a:solidFill>
                <a:latin typeface="Arial Black"/>
              </a:rPr>
              <a:t>El Tiemp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a Breve Expl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Consecuencias de este espacio para la Teoría de Relatividad Gral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 problema no insignificante – según la mécanica Newtoniana, efectos gravitaciónales son instantaneas, o sea, movimiento de un cuerpo masivo afecta inmediatamente a otro cuerpo masivo – o sea, a velocidad infinita, cosa que causa conflicto con la relatividad que sostiene que C es la mayor velocidad que exis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tinuación – Relatividad Gener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Relatividad General (Einstein 1915) sostiene que este espacio 4-dimensional tiene una deformación debido a la distribución de masa (o energía, son equivalentes por E=mc</a:t>
            </a:r>
            <a:r>
              <a:rPr b="0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uego, objetos que aparentan mover en recorridos que no corresponden a la métrica más corta en nuestra visión 3-dimensionales, en realidad siguen el recorrido más corto según la métrica 4-dimensional que incluye los efectos de las mas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El papel de la Luz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luz es afectada también, por viajar en rectas en el espacio 3dimensional que nosotros observamos, debe viajar en curvas en el “tiempoespacio” 4dimens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ecuencia – la gravedad tiene el efecto de entorpecer la luz, y desde luego el tiempo – un observador en un campo gravitacional más fuerte tiene un tiempo más lento que un observado en un campo más debil. (Esto tiene consecuencias practicas para la navegación, etc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El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 una consecuencia de la relatividad general (como demostrado por S. Hawking) que el universo nuestro tiene un principio, es finito, expande, y posiblemente tiene un f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 el universo expanda tan rápido que nunca puede decelerar totalmente, y eventualmente llega a un equilibrio de expansión, donde la fuerza de gravedad iguala a la fuerza expansiv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 eventualmente la gravedad causara una contracción que resultara en la devolución al estado original del universo (pre- big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equilibr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Devolución al estado pre-big ba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Hoyos negros y Viajes por El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isten fenómenos llamados “hoyos negros” que se forman cuando una estrella de masa suficiente agota su combustible, debido a esto agota su resistencia a la fuerza gravitacional.  Toda la masa lo comprime en un punto limite de densidad infinito.  Obviamente la cantidad de masa infinita tiene consecuencias graves para las metricas del espacio 4 dimens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teoría es posible (pero muy improbable) que un observador atraído por las fuerzas gravitacionales de la masa se podría encontrar de repente en otra región de tiempo-espacio (el llamado hoyo-gusan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Analogia de viaje por tiempo espac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43040" y="1905120"/>
            <a:ext cx="6396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clus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awking demuestra optimismo de que estamos bastante cerca al descubrimiento de una teoría univers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un eso no implica que haya comprensión completa de todos los eventos que ocurren a nuestro alrede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Fuente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-astronomy.mps.ohio-state.edu/~pogge/Ast161/Unit1/numb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awking, Stephen,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A Brief History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tenid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ción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incipios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ctualidad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uturo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plicaciones para Nosot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La medición del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segundo (En SI, el sistema MK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iginalmente definido como 1/86,400 del día terres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hora definido como 9,192,631,770 oscilaciones de un reloj que usa Cesio Cs</a:t>
            </a:r>
            <a:r>
              <a:rPr b="0" lang="es-CL" sz="2800" spc="-1" strike="noStrike" baseline="30000">
                <a:solidFill>
                  <a:srgbClr val="ffffff"/>
                </a:solidFill>
                <a:latin typeface="Arial"/>
              </a:rPr>
              <a:t>133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Ya veremos que el tiempo es mucho más complicado de lo que se desprende de sus 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La primera noción de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idere que un evento ocurre dentro de un marco de referencia estacionario – entonces puede ocurrir dos eventos a diferentes tiempos en el mismo lugar del espa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or contraste, para una persona que observa desde un marco no estacionario respecto al primer marco, dos eventos en diferentes tiempos nunca ocurren en el mismo lugar del espa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Algunos 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o fue perturbador para los que creían en posición absoluto, desde luego ellos se creían en una medición absoluto del tiempo – que existiera un tiempo universal que separará dos mismos eventos de manera unica para toda posició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Un Valor Absolut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róximo paso fue descubrir la naturaleza de la Luz, siendo que existen muchos conflictos al resp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stiones de propagación, velocidad relativo, etc. – eventualmente resuelto experimentalmente llegando al valor C como velocidad de la luz, constante en todo marco de refer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Diferencias entre Teoría de Relatividad y la Clás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sten diferencias entre lo que pasa con el tiempo que ocupa un pulso de luz en viajar una distancia en la mecánica Newtoniana y la de relativ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 la Newtoniana, como tiempo es absoluto, espacio variable, V. de luz camb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 Relatividad, Tiempo Variable, espacio variable, V. de luz luego puede ser constante (como es confirmado experimentalment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Transición a la modernidad del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hora, en la consideración de estos hechos, se puede definir una distancia como un “luz-segundo”, o la distancia que viaja un pulso de luz en un segundo, consecuencia siendo que un metro es igual a cierto porcentaje del “luz-segun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hora, es importante considerar que en “luz” de estos hechos, el tiempo y el espacio no son muy diferent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Tiempo como la 4rta Dimens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Justamente por lo anterior, podemos justificar que el tiempo es otra dimensión más en un espacio de 4 dimensio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sando la definición de espacio como luz segundo, es fácil crear definiciones de la distancia en este espacio de 4 dimensiones (es un espacio métri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2:02:24Z</dcterms:created>
  <dc:creator>Alexander Sideman</dc:creator>
  <dc:description/>
  <dc:language>en-US</dc:language>
  <cp:lastModifiedBy>Alexander Sideman</cp:lastModifiedBy>
  <dcterms:modified xsi:type="dcterms:W3CDTF">2004-08-27T17:31:01Z</dcterms:modified>
  <cp:revision>3</cp:revision>
  <dc:subject/>
  <dc:title>El Tiempo</dc:title>
</cp:coreProperties>
</file>